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61A4-E612-4494-B5AB-5A1E0C897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0845-2E3B-4097-A1C0-D59EE4F92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370-88A1-4D84-A15B-C5687F6C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870-6E84-44C0-8C4E-911909F6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8B0-A535-4723-A9DD-35E1A5BB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956-4EB8-4D19-A362-721B32CF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AB2D-CC73-49D1-957D-EAC5F096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875D-93B8-43F4-AA8B-E062C6E0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02B7-90B3-4E2C-BDA2-9C858A47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E983-7970-40D8-8575-0D81B077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663A-5C6D-4452-9990-1D1EA45C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1F66-87EF-4C63-AAEC-552430D3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092E-A89B-4117-A5C7-98A6C4F0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023-026B-4902-9AA0-FC6E7FB8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D007-1B9C-4CDF-BADD-EE1155E7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B93C-6946-4B30-8F8B-0411C76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F6CC-252A-4F1C-AF96-87471FD4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F976-79AE-467F-851C-CA141C35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A0BC-9DBC-4E2B-BC51-440ECC68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477E3-D2E5-4DC4-B5DA-E6FB2B89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E4B50-6EB5-4D6B-8051-68A00E80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12B85-BE55-4049-9734-7DD594E1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07DF8-7637-4F03-B7CA-38E6D0F4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37E91-66BE-4E63-ADC0-F8A69EAC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958-1C35-400C-8CF6-10CA3352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2AEE7-D87B-4FDC-9591-CE5FB853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E6DD0-2FEB-4237-8D8D-6E6ED829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10855-3A50-46C1-A99C-A70EB922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6B7C2-3555-4A7F-83BD-F809DAB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F4C3F-3DA4-48ED-9295-23B9E0B5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CE400-0866-43AA-BB15-5FD3785D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9BF65-A345-431C-B87C-3EF6AA01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1317E-F6E3-49A3-AF8F-F60A0EA0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1FC1-5256-4076-8940-1EBFF99A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E5401-0497-4F1D-9380-0BE998F2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9B6-CFA2-43F1-B827-34393E2D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95FAD-21BA-4841-A149-F0D25815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4D94E-B8C2-4085-8D16-D3418ADF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F22B-833E-4F6E-B7A0-AF7628F6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E97E6-B7E1-42C0-82E3-37EEF02F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69D9-D14B-44C5-A919-AF130B13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BCCB-823C-4125-8B4A-73B5539B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8EAA8-C449-4185-94D3-0E397660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5631-58F2-427C-A02E-F09D0A1E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2D4AC-1578-47F9-85D1-E2B6D1BE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6CB-115E-4F96-8869-EB66CB6F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6C0-2207-4484-A8DB-C18641ED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836-5D79-46D7-932F-5B2D8735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5E7-D62D-4879-942E-9EC3570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E3A-2D1A-40BB-81EE-AC7E47B8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C139-3785-42CB-AE27-164BE62218F1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5DA7-0FDE-41F1-B996-FA41553A57A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B1EC-D6A3-4E71-B7EB-2FC8BDB7C0AA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EA00-3842-4FCB-8798-A144B7C85457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93E2-C601-4F94-BC23-C06390E0DF7F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3D16-6E6A-447B-807D-64A6F665BFC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387A-5861-458C-830B-148C7D10AED2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02A7-96DF-4B30-A844-CD4788A2C33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at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ural ga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tt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hea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re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etroleum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ream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emind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ach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iste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anc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oo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i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ds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Cotton dream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tend those words into a descriptive sentence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swer Part 1: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The fields of cotton dream of the fine clothing items it will someday becom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swer Part 2: The act of dreaming is a human quality that was given to the cotton field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ample: Write an accurate sentence that uses personification and explain the use of the literary devi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hoose one natural resource term from list A and one verb from list B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e a descriptive sentence about our natural resources using personific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at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ural ga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tt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hea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re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etroleum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ream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emind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ach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iste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anc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oo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i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ds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Coal remind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tend those words into a descriptive sentenc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swer Part 1: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The abiotic natural resource of coal reminds consumers to be energy efficient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 act of reminding is a human quality that was given to the natural resource co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09480" y="190008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Introduction to Agriculture, Food and Natural Resources students explain personification within their own written text about natural resources to communicate the effect of such literary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troduction to Agriculture, Food and Natural Resources, ITA 3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escribe the major categories of natural resources in America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Describe local natural resourc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11.R.3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can analyze and explain literary devices within tex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ecognize literary devices and communicate their effect within text: personifica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rsonific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iving human qualities to animals or objec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ample: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The leaves whistled in the wind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e act of whistling is a human quality that was given to the leav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ample: Write an accurate sentence that uses personification and explain the use of the literary devi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hoose one natural resource term from list A and one verb from list B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e a descriptive sentence about our natural resources using personific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at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ural ga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tt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hea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re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etroleum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ream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emind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ach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iste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anc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oo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i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ds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Water danc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tend those words into a descriptive sentence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swer Part 1: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Lake Oahe’s water dances under the bright sunlight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swer Part 2: The act of dancing is a human quality that was given to the wat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ample: Write an accurate sentence that uses personification and explain the use of the literary devi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hoose one natural resource term from list A and one verb from list B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e a descriptive sentence about our natural resources using personific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4T17:32:14Z</dcterms:modified>
  <cp:revision>90</cp:revision>
  <dc:subject/>
  <dc:title>South Dakota Ag Education</dc:title>
</cp:coreProperties>
</file>